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085-348D-4FC2-B1E1-4CC26870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748-9A9E-4BDE-8830-034763D2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741-9BF2-4377-827B-ABDEF93B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FA4-CE11-46D1-8042-ECBA49FF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1A72-AB00-4C75-B9CF-FCC99B38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791-143E-49C6-B021-ECB8ABE7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B1C8-04B6-4435-BA8C-E33FE92F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48DB-EC7C-4448-AE30-C93C7C79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4D7E-3CE7-460C-A545-ADE0A5BC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2F17-02C5-469F-B45F-C3C041B8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21B7-FC9E-40DC-A450-DCA8DDC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768-D6A4-4090-AF0F-D556ACB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BCDE-88E1-4887-A3D8-2EA7896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5C6E-97F6-4389-A5D5-D5AAAD5B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DFF3-A5EF-4F0A-8800-30D4B4E0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AB2B-1787-4495-9897-666BE7C3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693-048A-4613-BC2C-5720103A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C5C0-C13C-4C45-B898-FAD6CC31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6233-810C-4E55-9BDD-0227D187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C6C0-4589-4ED2-9228-80C8E386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F1EB-A6E7-48A7-818D-885BC26B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3163-C7A8-444A-B588-26723BF6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5E9-9825-4522-B9FD-F503CF12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49C3-0AB4-4A8E-8A12-DEACFFD5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9D07-CAE5-457D-80DD-0AD3B0BC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0FFF-7E73-4CC6-9D95-7B93888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1EBE-F168-4B32-A275-6BD0DD3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748D-850F-4F98-9E98-C0A849A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944B-A30D-48AB-B8B5-DBF36937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3324-15A7-44FB-9C84-3E51B08C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90C0-4A6F-469F-AFF1-86C77EB0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27CDC-1C29-4F8D-A4D7-0F037F7B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397B-13D2-47E1-9FE8-E063AB1F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B3F-776B-40C9-9E42-7863C06E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217FF-91D1-4408-9E52-521B2288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B7E5-4941-4047-93D6-88731075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4080-ED31-41BA-AE4D-5357B4F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7C3B-262D-4FF6-BE72-18BAC40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1A776-84A8-479D-8D79-5E7D9E44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6406-7BD6-4262-8E88-DCC6F49C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E9B7-686E-406C-BCA5-2C75F6F4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90BC-081C-486A-AB95-26DA248F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22BF-3E9C-49C5-A057-309758C0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0A688-A348-4764-B42C-C4125161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8F9-70F9-4B0D-ADAB-5C089122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C4040-3316-4D46-AC9F-8C879775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C1310-45AC-49D4-8481-C0AA593F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73FF5-5C34-4131-9E92-4B4D3445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00D7-504F-4C9C-BD3B-66FAE96E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18A9-11DA-49D8-B2CA-918FD9D3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94848-EF36-49D2-8476-382B9B36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FFA5C-37C3-45AC-9ADC-CEA1677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E64B-3471-4701-A03F-257B4A3B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362B2-7B1C-4DC0-9261-E049597C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784E9-82F1-4222-BC33-53E24319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C9F-7BA4-4922-B8DB-B5D11A15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E8B02-458C-4C9A-BC5C-1D295FF7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99B6C-6276-4933-82DB-76AAB629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6C7A8-4F06-4B18-A2FE-8DD535A3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54EBC-6D91-4BE4-9BDF-CFC7C192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C4242-4FD2-486A-BECC-D662ACC7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2D401-285F-447B-8C5A-5C500CEF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4BD77-7BE3-44DF-AD0A-65FF7F69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DB8D5-D2A3-4753-B8CC-ED571A7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24C6E-C117-47C5-903B-A3CFD7A1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4130F-E4A8-4692-A8C1-533E4DA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8C8-A506-4672-992C-B89179D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DD8A0-863D-4222-BFB0-DFE3BE39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017A2-E215-464F-AA73-43CBFFFF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5289A-3FCF-4194-8975-C7003384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03DAB-CE81-4C7B-89B9-BD0A9ECD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061BA-F458-40A3-A123-EE83FE45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5CB7-6EA8-4A37-B42F-A950BA0C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9D7E-2B9D-45E4-8C36-53F4B6F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DF36-F750-4832-A618-15506D4C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5C743-47B3-4BDB-8EA7-FEB65551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15715-3ECB-4DEE-9EB5-32D678B9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65F-21DE-4AC6-8EE1-6EEFEFE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24AC-0228-40EE-93AF-7FF6B4C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61E5-FAEA-46E7-A366-49B3F85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FB3F-F181-4507-8A9F-84420EA1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A71ED-0DA5-4C25-B9DA-B0A70768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F073-0991-4925-A75A-584AA2B3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4BF-BAE5-4967-B0B0-D8341AA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0750-2BBF-49FF-9C55-5ECE6A38989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7930-7F1C-4DD1-AD69-6AA8D4B68F6F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A3CB-C008-4945-9F13-1D8A4B691678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974F-FBFE-43C3-A733-3261C765CDC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865-2319-426A-8136-EA6F579136A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4889-9D03-4C6E-8E0B-E344896C03C4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4A13-CA9D-4528-B9AB-95933733B9B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ing Plant and Animal Cells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Picture 4" descr="plant cell"/>
          <p:cNvPicPr/>
          <p:nvPr/>
        </p:nvPicPr>
        <p:blipFill>
          <a:blip r:embed="rId1"/>
          <a:stretch/>
        </p:blipFill>
        <p:spPr>
          <a:xfrm>
            <a:off x="1143000" y="1066680"/>
            <a:ext cx="1625760" cy="1346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animal cell"/>
          <p:cNvPicPr/>
          <p:nvPr/>
        </p:nvPicPr>
        <p:blipFill>
          <a:blip r:embed="rId2"/>
          <a:stretch/>
        </p:blipFill>
        <p:spPr>
          <a:xfrm>
            <a:off x="6629400" y="990720"/>
            <a:ext cx="1371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 (more!)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store energy from food in ATP molecules. When the cell needs energy, the ATP is broken down to release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6" name="Picture 4" descr="atp"/>
          <p:cNvPicPr/>
          <p:nvPr/>
        </p:nvPicPr>
        <p:blipFill>
          <a:blip r:embed="rId1"/>
          <a:stretch/>
        </p:blipFill>
        <p:spPr>
          <a:xfrm>
            <a:off x="2743200" y="3352680"/>
            <a:ext cx="3733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Using Inform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nucleus is the control center of plant and animal ce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nucleus contains DN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and RNA molecules work together to make proteins.  Cells require thousands of protein molecules in order to work well. (Central Dogma!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9" name="Picture 4" descr="protein"/>
          <p:cNvPicPr/>
          <p:nvPr/>
        </p:nvPicPr>
        <p:blipFill>
          <a:blip r:embed="rId1"/>
          <a:stretch/>
        </p:blipFill>
        <p:spPr>
          <a:xfrm>
            <a:off x="2971800" y="5257800"/>
            <a:ext cx="3581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More DNA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in a cell’s nucleus determines what kind of cell it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has instructions for all of the cell</a:t>
            </a:r>
            <a:r>
              <a:rPr b="0" lang="ja-JP" sz="2400" spc="-1" strike="noStrike">
                <a:solidFill>
                  <a:srgbClr val="564b3c"/>
                </a:solidFill>
                <a:latin typeface="Arial"/>
                <a:ea typeface="ＭＳ ゴシック"/>
              </a:rPr>
              <a:t>’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 activiti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doubles when a cell divid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2" name="Picture 4" descr="division"/>
          <p:cNvPicPr/>
          <p:nvPr/>
        </p:nvPicPr>
        <p:blipFill>
          <a:blip r:embed="rId1"/>
          <a:stretch/>
        </p:blipFill>
        <p:spPr>
          <a:xfrm>
            <a:off x="3048120" y="464832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7d72"/>
                </a:solidFill>
                <a:latin typeface="Book Antiqua"/>
              </a:rPr>
              <a:t>Plant Cells vs Animal Cells:</a:t>
            </a:r>
            <a:br>
              <a:rPr sz="3600"/>
            </a:br>
            <a:r>
              <a:rPr b="0" lang="en-US" sz="3600" spc="-1" strike="noStrike">
                <a:solidFill>
                  <a:srgbClr val="6b7d72"/>
                </a:solidFill>
                <a:latin typeface="Book Antiqua"/>
              </a:rPr>
              <a:t>Similarities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animal and plant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cell membranes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at enclose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are filled with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cytoplasm,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a gel-like substance containing chemicals needed by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a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nucleu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her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DN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is stor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riboso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protein builders of ce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Similarities Continued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plant and animal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mitochondri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hat use oxygen to break down food and release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kinds of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vacuol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hat contain food, water, or waste products. (Animal cells usually have many more vacuoles than plant cells do.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A Few More Similariti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endoplasmic reticulu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where a system of tubes transports protei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Golgi bodi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o distribute proteins outside of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1" name="Picture 4" descr="MP900390197[1]"/>
          <p:cNvPicPr/>
          <p:nvPr/>
        </p:nvPicPr>
        <p:blipFill>
          <a:blip r:embed="rId1"/>
          <a:stretch/>
        </p:blipFill>
        <p:spPr>
          <a:xfrm>
            <a:off x="2819520" y="4114800"/>
            <a:ext cx="3657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7d72"/>
                </a:solidFill>
                <a:latin typeface="Book Antiqua"/>
              </a:rPr>
              <a:t>Plant Cells Only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cell walls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at provide structure.  Animal cells do not have cell wa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chloroplast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for photosynthesis, which is how they make their food/energy. Animal eat to get their energy, thus animal cells do not have chloropla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much larger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vacuoles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40382d"/>
                </a:solidFill>
                <a:latin typeface="Century Gothic"/>
              </a:rPr>
              <a:t>typically they have one large, central vacuole </a:t>
            </a:r>
            <a:r>
              <a:rPr b="0" i="1" lang="en-US" sz="2400" spc="-1" strike="noStrike">
                <a:solidFill>
                  <a:srgbClr val="4038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PLANT CELLS ONL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ne of the reasons plant cells have larger vacuoles is for structure and suppor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s a vacuole is filled with water, the pressure inside pushes against the cell wall, help the plant to support it’s rigid structu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called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turgor pressur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3962520" y="4495680"/>
            <a:ext cx="4559040" cy="1817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98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More Differences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nimal cells use 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mitochondri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for energy production.  Plants primarily use 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chloroplast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o produce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nimals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lysosomes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ut plant cells do no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get energy originally from the su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 plant cells, chloroplasts trap light energy and change it into chemical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hemical energy is stored in bonds between atoms of carbon, hydrogen, and oxyge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 (continued!)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hemical bonds hold two or more atoms together to form molecules of sug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plant and animal cells break down these molecules by breaking the chemical bond.  When the bonds are broken, energy is releas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can either use the energy or store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itochondria in plant and animal cells use oxygen to release this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2:00:43Z</dcterms:created>
  <dc:creator>WSFCS Workstation</dc:creator>
  <dc:description/>
  <dc:language>en-US</dc:language>
  <cp:lastModifiedBy>Geneva Jost</cp:lastModifiedBy>
  <dcterms:modified xsi:type="dcterms:W3CDTF">2016-11-07T17:00:16Z</dcterms:modified>
  <cp:revision>7</cp:revision>
  <dc:subject/>
  <dc:title>Comparing Plant and Animal Cells</dc:title>
</cp:coreProperties>
</file>